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E17-DDFF-4DC1-AB2C-D2408151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996-DFB3-40EC-89ED-3F6996A7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8A4-FD8E-4C16-8F68-FD67D294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B19-02F7-4DC3-BD9D-ECDA4065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AD4F-525C-42A3-BDCF-A7C5AD4D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C563-2338-48DF-9F89-62F6B15E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648C-1892-449A-AD58-9EE9B9E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AC9A-833E-40CC-BC7D-08CD36C9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8D3-AEB2-470E-8404-ECFE17FC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3D68-2BB8-4ABC-9758-1DDC6D61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F672-335E-4795-AAA3-5F7E8F4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A8A-FB45-45A9-BA9D-3BDEE1FA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2756-3EDC-4251-9510-2CA7B0C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DDFF-B810-4564-9308-8E8F92E4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8F38-FCCF-4A57-9AD6-9E2DEDDA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5C49-5AEF-4684-B6A1-17AD81AC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1511-1DB8-4E10-9275-EA29EB17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78D-0AAD-4BB8-8BC3-B1635414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779-A27E-4926-968E-9ADEECF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68D-AC11-41C7-A54A-795774D8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9A9-1129-4BE0-8B62-EA4CAA8A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8DB-1C5C-47BA-9A23-6ADDCC7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4FB-63AE-4225-9589-A75FBB65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255-B9CD-47DD-9C9A-9B27A77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A98-DEA9-471C-BF92-4BD24165FB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DA10-A3B7-4644-BE19-348F99C9C6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98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98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98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598"/>
                            </p:stCondLst>
                            <p:childTnLst>
                              <p:par>
                                <p:cTn id="34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598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598"/>
                            </p:stCondLst>
                            <p:childTnLst>
                              <p:par>
                                <p:cTn id="35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900"/>
                            </p:stCondLst>
                            <p:childTnLst>
                              <p:par>
                                <p:cTn id="3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900"/>
                            </p:stCondLst>
                            <p:childTnLst>
                              <p:par>
                                <p:cTn id="3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900"/>
                            </p:stCondLst>
                            <p:childTnLst>
                              <p:par>
                                <p:cTn id="3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9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900"/>
                            </p:stCondLst>
                            <p:childTnLst>
                              <p:par>
                                <p:cTn id="39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9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9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9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10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10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07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09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11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13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1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17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1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2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2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40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4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90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400"/>
                            </p:stCondLst>
                            <p:childTnLst>
                              <p:par>
                                <p:cTn id="1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900"/>
                            </p:stCondLst>
                            <p:childTnLst>
                              <p:par>
                                <p:cTn id="1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400"/>
                            </p:stCondLst>
                            <p:childTnLst>
                              <p:par>
                                <p:cTn id="1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2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5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50"/>
                            </p:stCondLst>
                            <p:childTnLst>
                              <p:par>
                                <p:cTn id="238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850"/>
                            </p:stCondLst>
                            <p:childTnLst>
                              <p:par>
                                <p:cTn id="24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9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1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350"/>
                            </p:stCondLst>
                            <p:childTnLst>
                              <p:par>
                                <p:cTn id="25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